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6B4-13F4-479F-928E-50C519B1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146-B740-4455-89F1-FAE74176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500-F48B-415E-8AA1-711690F3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1129-B225-4EEC-9A57-C1835434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5B5-2C84-439A-97DD-1EB2D182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C774-FAF6-4588-A69C-DCB9EDCC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E5B-66A3-412A-95B7-AA16BB06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757-6DFF-4BC7-862C-9E2AB529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471-EC32-4DBA-93D2-B8A6571C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92A1-1180-4C77-9210-FD2A992D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B847-4A86-4773-802D-B660C5DA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58F-8590-4E86-AA2B-6CFFA0B0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91EC-FEF6-4B00-ADBB-876061E9FAB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260280" y="1125360"/>
            <a:ext cx="8621640" cy="532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4"/>
          <a:stretch/>
        </p:blipFill>
        <p:spPr>
          <a:xfrm>
            <a:off x="2944800" y="3503520"/>
            <a:ext cx="2209680" cy="660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5"/>
          <a:stretch/>
        </p:blipFill>
        <p:spPr>
          <a:xfrm>
            <a:off x="239760" y="4437000"/>
            <a:ext cx="492444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6"/>
          <a:stretch/>
        </p:blipFill>
        <p:spPr>
          <a:xfrm>
            <a:off x="239760" y="5373720"/>
            <a:ext cx="4914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468360" y="1549440"/>
            <a:ext cx="835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57434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33560" y="981000"/>
            <a:ext cx="6970680" cy="622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2936880" y="2662200"/>
            <a:ext cx="5956200" cy="546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434880" y="4653000"/>
            <a:ext cx="849492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3141720"/>
            <a:ext cx="856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ب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 الصالح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يمان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701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32"/>
          <a:stretch/>
        </p:blipFill>
        <p:spPr>
          <a:xfrm>
            <a:off x="324000" y="1484280"/>
            <a:ext cx="85341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565520"/>
            <a:ext cx="346716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مربع نص 1"/>
          <p:cNvSpPr/>
          <p:nvPr/>
        </p:nvSpPr>
        <p:spPr>
          <a:xfrm>
            <a:off x="250920" y="1844640"/>
            <a:ext cx="864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أمر الله تعالى بمكارم الأخلاق ونهى عن كل قبيح ومنها في هذه الآيات تحريم الأيمان الكاذ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05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66680"/>
            <a:ext cx="878544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24000" y="2481120"/>
            <a:ext cx="8496000" cy="4116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324000" y="969840"/>
            <a:ext cx="8662680" cy="12956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ن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604360" y="1773360"/>
            <a:ext cx="38232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خداع الناس بالأيمان الكاذبة وغير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أيمان الكاذ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أيمان الكاذب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د عن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يمان الكاذبة تسبب الصد عن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كافر إذا رأى أن المؤمنين قد عاهده ثم غدر به لم يبق له وثوق بالدين وقد يصده ذلك عن الدخول في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فريط في دين الله عز وجل لمصالح دنيوية زائ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شر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عظيم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 الإقسام به وعدم الحن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له تعالى للصابرين المتمسكين بدينهم وعهده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زاء 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1"/>
          <p:cNvSpPr/>
          <p:nvPr/>
        </p:nvSpPr>
        <p:spPr>
          <a:xfrm>
            <a:off x="250920" y="1844640"/>
            <a:ext cx="8629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من أسباب الصد عن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3"/>
          <a:stretch/>
        </p:blipFill>
        <p:spPr>
          <a:xfrm>
            <a:off x="1585800" y="981000"/>
            <a:ext cx="72946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5T21:02:10Z</dcterms:modified>
  <cp:revision>1924</cp:revision>
  <dc:subject/>
  <dc:title>عرض تقديمي في PowerPoint</dc:title>
</cp:coreProperties>
</file>